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start.wav" ContentType="audio/x-wav"/>
  <Override PartName="/ppt/media/image13.png" ContentType="image/png"/>
  <Override PartName="/ppt/media/image16.gif" ContentType="image/gif"/>
  <Override PartName="/ppt/media/image15.jpeg" ContentType="image/jpeg"/>
  <Override PartName="/ppt/media/image14.gif" ContentType="image/gif"/>
  <Override PartName="/ppt/media/image1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4DC10-96B1-4E27-8343-DD8F6EAC61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A41F0-4A40-466D-936F-6246039A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5418EE-2135-4587-A57B-9B12EA20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23A9AF-6E22-438D-9C69-B53A901A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8857CB-E8DE-4674-B2F1-A628FDE7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A822AB-0DFD-4406-A169-2BB65157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191B70-22C8-443F-8DEB-6FBEAC54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C4A710-495D-4428-8EA5-665AAE0F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B01E9D-B3C2-4BCA-95F2-1DB6DA32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711D2A-14F6-4FAF-968D-A330CA07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A5AF63-8B1C-4606-9A29-7C38FBEE58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2EB92-B1BD-4168-9B13-0B630AA222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D03D8-5343-4601-A01E-DA520A9E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08225-F65F-4489-8B04-8C64087C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B712A-4827-48AD-8264-2DCE5B2D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606A2-00A8-4379-9BF5-705DAECA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B97C8-AE0C-4365-BF08-EEF153B2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0AA9F-84A4-409B-B18D-F6923EFA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AA1EF-42C8-4CB6-AE6B-200B6FBB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4E619-D38B-42E6-816D-57D890D9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C25E7-0D26-4E77-9126-25BAC66F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F4A0B-7B67-4B3D-97BE-675EE3ED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14F4A-FA8F-4C70-B5F8-685FCDB2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101BC-E066-40B9-957F-F7ABC5BDDF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DD724-35A7-4209-BA7C-63F80831E8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6EA580-5992-4371-A157-FD61F689F6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7FD1C9-4F92-4677-801E-8F2A2C4D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DE84C9-7625-4607-90AF-D7D606C2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2270E2-2824-47EE-9486-BD1F08B2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CC3371-8EB1-4A96-B0CC-CE0C53D5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0B7208-83B7-4D21-9F98-A88EFEF3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245A4C-2180-4A6D-A4A9-5D11AB42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E9A4F8-5AB9-4384-8A37-F6016FF8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E6DF76-248B-48DF-A6A2-B097E315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5220D-725F-4D3A-9E33-1844C78881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704144-FD1F-4D51-B803-43A4B1F1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912906-C577-4074-A73D-C3B2DE50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A8D1F7-F264-41DA-97BF-26CA334D6D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EFB624-6D4E-43C9-8E8D-CBA4AF7485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F8F8A0-90A9-4F92-A6E0-60D67E1F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930726-280E-44ED-A9C1-C30E368A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2F1EB-8F2E-4002-AADC-81ECA44C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C23B4E-8814-41A1-BFD3-93728AAB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A2B91F-99C8-49ED-B220-B0D02978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5F3ECF-69E7-4E89-AEFD-1D2856E4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B2EB2-C220-497C-8F2D-882A1A0D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4F8381-20D0-411A-AB83-D4AE17BB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9DA850-4AB3-4EDA-8AC5-8D193A55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25912F-870A-461D-AB56-7E41DE3E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7C2DBE-62E4-4F6C-B780-01EB8D1E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B96473-039A-4FD6-AD7E-45E659F86F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FBD03-9F7B-48AE-8E37-DDCA652744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CE9C9-89F0-459C-ACC5-453E9189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D24D3-6B56-4297-B9CF-9E22A515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0E321-B357-4471-BCA7-E9BF7BB0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1DB3B-1782-4044-A62B-6EAF07FB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10571-CCC7-4B30-B371-3327B9E9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1A3E1-9A49-4A57-86C2-06A4F1B8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B1FFA-B66E-4D24-8A9A-905EC373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4A049-C435-4622-BD28-51ACD822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8E25F-C1B8-4D28-8BBD-06B156D9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4FB72-3BEF-4A02-84B0-F20BEFB6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C1E1B-2BD8-4E45-8259-B1D80C33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0A21D-16A5-4355-975C-17690FD1E6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FB7126-8378-4210-9DF0-168989BDD9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BDC1F1-4C23-4255-96CC-D7F13B71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079A8E-1B69-4F55-A087-3BE5F952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384DA-5A9E-4244-BCAB-A906CF84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AD74E9-6EA8-479F-87F3-95BD23F2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D4E409-A8AB-42B5-9D85-21275555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EB6D0E-2FE6-447E-B9A7-BFCFD2F9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CC940B-B50E-47B7-B364-7C566962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FE6436-0357-4F38-81BA-9A906C31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0DAC72-8FE3-4D62-9DBB-C1030142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0592BF-5CBD-40F2-9028-3960E812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C32B77-C3E5-485B-A9D3-8442B70C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814D64-0865-409C-B35B-E9867E9842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A6E8D7-9199-471F-90F7-C58CA10615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3EE9F-7EEF-4437-B5B3-00404C63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1E6D90-451D-498A-AD6A-E6BD6DA7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73D949-AD71-4B11-8C3E-9C8780E0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7CAEE3-4B6F-4955-A7CA-12F04576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48638B-49E0-410E-BB54-0F43C3C1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0BAA21-F728-4864-8333-16FA924D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29D246-7A1C-4CBE-A8D5-2FE0F451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82F2497-BBCC-49FD-B018-D1A90D61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8345CC-64F2-4BCF-B3A6-FC796C79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B0F0B2-58D0-4BED-BDBF-AB40E234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8C1DC5-FFAC-45FF-8C5C-1152C74E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4500A-EDB3-454B-9C31-C159C4C9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068AA9-6928-4FBB-AA38-C7404516B0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320E3-F5CC-490E-B475-279FE2FF08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106E3-A113-483C-BA01-2F804A3D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2C847-7460-4E95-9F8B-0261DC3C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1DDBB-1B15-44DC-BD75-027ECE91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F5F8E-E302-46DE-85FE-125FD035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474B9-760B-492A-920B-4F34E757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7FE84-4DBD-4863-A9EF-DC050F68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57027-DFAE-43BD-A2F0-F432BACD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CA2C4-E9F1-48C3-BAEC-06D90CAF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E6741-DF73-4C02-A498-205B3A4B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DF742-5F19-496D-B9EA-2B6126D9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7282A-E949-40D2-BBAC-E11796C0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427FE-E128-4C33-9FE8-44E645A1AE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744244-0C32-4E88-A9A8-44914C3F2A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D67559-EEAE-4559-9CF2-ED2C57D7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FE00DA-E057-42F4-915B-1F7FAF5F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84E676-E109-488C-8A40-025B2444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B13CAA-C75F-473A-B374-0CDB45F5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D5A1C4-FD2C-46AC-9B8D-03D3EA1E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FB30D0-27C0-4BC5-8B9C-98E1ECC2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C2064-A78C-4823-AB01-001551C5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94D6F-FDF2-4B24-B221-F67535A4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DBF85B-D8AA-4905-A352-722683C4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F8C7BE-454E-463C-8EFE-FD13C44E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8CB865-21F5-4E81-BF36-F2509E05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73CA19-4A95-4C08-B05D-A2B71F48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C811C0-AA93-4E10-91D3-65B7AFFAD7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E34FF11-45B5-4329-875E-F3A70A89FE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23B099E-88F6-445A-802B-9448EE1E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2D24200-7E60-4A3A-8812-26B20C62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E8C0D2A-9471-4D8B-A948-BC31A30A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92EE812-885C-4E55-9E15-C7A415D4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F6EB1-E6E2-4396-8562-4AA4D0CA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892F740-D503-4727-A1D2-9269577B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5E932B8-591F-48DD-962C-BDA97BEB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B0D6ACB-8EB2-4206-AC13-2C447267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BB64983-9F08-40F9-ABF6-EC9C1BB9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F5195F8-3A55-486F-8540-7626CF3D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859E348-678E-40BC-92D7-FF9F2963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A312ACD-7779-439F-9DC2-3E03313393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A3BD7-BF7B-4247-8B79-0917BF4384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9B34B-9448-4A36-B925-F3332525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84758C-5500-4141-9CB9-3ECB42AB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48BF3-C434-4BC9-99D5-7CFE4AC5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367D6F-BF5C-47BF-AD4F-C46B9D90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362BD7-5716-4369-8741-748EF255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16A077-EBF6-4E08-95A3-9A1F443F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E837BD-35D1-4CAF-BAAA-685AD054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C51F71-9C25-444B-9CA4-59114C78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8F39A8-6278-4B95-B671-EC25F7ED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0A2C20-0331-4120-A6A6-80BFB5CD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F296D3-A16D-4007-A8C9-491AD50F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2FD105-3482-48CB-A2D4-750FF1B308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BC086AE-2E0C-4D4A-9C4E-CC0BBC8E5F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FAF47-1812-4437-9E6C-84B903EE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D4D54EB-DEA5-42F0-A281-AFA9E859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28D1C5B-4B0F-4980-9BC5-7B104D7E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D3F0B4-3CB0-4962-B9C8-8CB4637E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BFE8514-3349-414B-9ED8-CFE1E3B9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E57680F-20B4-4F31-9B0B-FED46B18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5B7106C-ABE3-44A0-AA97-C4E71320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5F44FDC-C4BF-458C-879E-5C187C24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CD95FFD-28AF-4947-B907-6530AA62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7997FD4-DEBE-4A90-8809-575C8ED6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4A88DA5-1A89-4FB4-AB70-30E504BC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2E133-3CAD-4A14-B4A4-FFB7591031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066452E-91FE-4C7A-A42D-5491C886B9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9AFE411-D88B-467E-87A9-CA9F0DF796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28BDCB7-7B34-47EA-8CA9-458A071C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22A1503-7F45-4DC5-AC7E-C5FE808D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2DC4533-BB08-4026-B28F-81C7FF94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B90504C-854B-4F49-9E21-DF35AD98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B0D73D2-0C53-4E5D-A2EA-055CEDA1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202F227-15D7-4AC8-9506-2A528AEE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594DCEC-9C94-4F66-9E09-E1816529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5CF6C83-62FB-4391-AB55-3349F596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62F20A-CF2F-4210-B40D-A8F97F38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73E5EBF-581A-4BB0-8330-C02DA126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AE3DD3D-E850-448F-B88D-3D455523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6932ECA-A4B6-4FE5-AFEB-13075221F8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C96653-8894-4597-A645-E8F54672A8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7D431D-8DB2-44A8-A8A7-AA1BF7B4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68E3AA-6E01-4669-93C5-F957E6A2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3F9E71-EBB6-4AF9-907F-9C8D6D31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0A08E8-8B4A-4152-B89B-B33152FA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E40949-61A5-4375-A828-7616B4D7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E680CB-6765-4D99-A459-3858D47A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697582-1B47-445A-BE5B-E5A1C995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46BAD1-73F0-4F45-8150-C7AC3A06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F13785-5B1F-49F7-82AC-06DC8BC5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A1629C-5642-4D6C-A2FC-2CC2DDB3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E0ADB7-AB24-4219-9C69-A6906271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84055C-8558-441C-9B19-8533DC8F22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03E446A-04A9-4E39-B632-B8BEF45793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E946600-F0D0-49CB-8BC1-93A4C0DB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F262C50-381E-434B-B9C0-7AC2A389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086BAE4-1312-4645-B722-E8F65641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C36F9BD-F6B4-40E6-A551-01DD97A5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2FAC1F-9A96-494A-B470-D67944CD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6828636-E89B-42DC-BC54-DC8CC3CF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F8CA0BB-CA6F-4B48-BE59-6E190AAA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739E7F0-36FE-46EF-ABB6-91F41E84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3DA92FA-D04B-4935-A573-3E72FD76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6DA6F47-3625-4AFB-8A14-56D0CF7F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A0C45AF-0E1B-427C-9032-4D1E19B6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D3A7CF8-693C-423D-9388-F42D1A3F67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E6BB7B7-E30C-4DE2-87AC-29A278ECAC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801551A-066B-470D-B14E-EDA2048D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35C4FE8-DDBF-4195-923B-ED866910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ABC758-0391-4E5A-A0A3-FA124909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B07E725-7606-4609-9A52-17FB8222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A0167F5-9016-4820-B8C0-12B1D429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4A42670-118A-4E22-8D5E-D8EC8518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A4828D2-0204-4E06-87E3-532AA318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EC5FAAB-665D-49D9-9CC2-5F18C6C0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30DFF8D-574B-4616-ADF4-49DD3483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D716F39-AC85-40EF-B875-5C79CF96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8724D0D-73A0-4453-AE8B-9206DE42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4E9D571-1171-409A-A0A9-193EE6F333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69891C-DCCB-405D-8099-293C763F04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81F536-CA73-4496-8736-A9926AD4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5AF899-9A21-4BE1-B5D0-15BCC76D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6F4F2E-1CE9-449E-AA8F-C5DE2B7C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76876D-1D6C-4872-BC3A-8D915A02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CCF47A-9CF0-43F1-8040-E3654161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34DF40-8FA5-4D73-8E96-60869C13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732E75-101F-44CA-BEAC-1C1F8556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1428D9-C314-4AB4-A333-632F5933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376709-E311-4704-B564-59F4513A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12FA5F-C551-4B15-A441-2B4CB0B8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0D0F53-E4C1-4769-A62C-C7AE07FD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DB217-3112-41E7-B9E4-E7D00DCA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D2D2EF-F929-492D-A114-262D86EA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519D93-09B2-40CD-8D86-51EB8F9EC6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908B1C-A235-4145-8FC3-5108A012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79A1B3-310C-416C-B32F-141D1B51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5312E9-593D-421E-8C10-5579C4B0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D05073-9AF2-49D4-AD6E-25E26F33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CFDA99-9E1B-46CD-9EAB-3124AE81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75BDAF-2BB3-450B-B96D-2C4F9777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5504E2-E4C7-4370-BFCE-C25AFEE3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8F2B4C-D555-4F79-9EED-E5519FC8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CDFAD1-EE8D-44C9-A086-CDCBCE2A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65F8C5-A05B-4017-B831-A83DD79C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DECC06-2F68-4DB3-BC87-A8EAA623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C8AC04-137D-4EF8-910E-842DC34A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1292E8-5779-4153-B88F-F056434B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261FE6-1A64-4D83-A757-1A4040D0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CC5A02-7C19-4270-A9ED-5562E89E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B8AE47-1466-4C6F-B11C-404042C1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715C1D-B2C8-40F9-8859-F547EE61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B91427-9DDD-4195-BF0B-E11EA050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C3692F-506D-424F-86D6-83094621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EABB11-20A7-4290-8B18-AEE09939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A03316-75FC-423A-8952-C6387238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A75DEB-C72E-4BBF-84D9-22AA1690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2182C4-CBC2-4611-92BB-B133683F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FB3BFB-FA64-4763-AC1B-A9721D3C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4EA0BF-B320-4E70-B0C6-9ABC0487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A75030-F870-47DF-8AC8-4CE076CD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D5049E-CF3A-4D13-BE79-55B024A5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E8E53A-D4FB-4811-845E-994FC033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87574E-5E8D-4C5D-B97C-DB29C43D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E34830-0BE7-4A36-8F23-FE5B1421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B9C47F-5C9F-447A-ADBD-773E0C8B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AEE02B-CC85-4317-9E9E-76633488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270524-F023-4CF2-B199-B8CDBBC3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9099E5-8099-4A68-8991-86A8A731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4A7C35-7896-48EE-90F8-08927065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770FE5-CBD1-41A9-8996-010F94E4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001DCB-34AB-4AF9-98A6-88998A95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6DFBEB-B122-4405-9B7D-146970D4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19A03C-9A39-47D0-A0F5-1926F0E0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908B82-6E02-4297-8ED8-BEF99BC3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0E0266-64B5-4D0C-921C-110E57B5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E86380-4C42-4B6A-B03D-E74CDE4B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93EEFD-14EE-4C35-900F-FF779EC3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64BF75-D1B7-4E11-8652-82AB8BD6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8DED17-17B2-4BED-8913-83C8DC7D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1DEB88-62D2-4539-ACB0-45291436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6B7AE5-3B7D-4752-9554-5EC23657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13C404-FD3A-4684-BDF5-3E147F79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A3EA52-87F8-49C3-984D-88247CA5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B4544D-E800-43E6-9E19-CB2F4443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97B5FC-5D2B-4E1E-87B6-E8D90500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5A19E3-08FA-4FA9-B747-7F1B5DBC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567B6E-39E6-4A5F-A9FB-11F791C8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A8DDB1-0FD8-4FC5-AE02-93111C63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8CB68D-FF0E-47B1-BE70-D6D3DE26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B1FFED-AABE-4C77-9A06-C3F8C7AC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B7D189-9172-413D-B150-B4E630FB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4414E1-93C6-40BD-9F90-406E9AD0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1351B1-E579-48E5-9EEB-31BB9840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3E214C-6A3D-4FAE-900D-63DC4858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AA7955-5918-4236-9320-14F646A2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4D6BD3-5D5C-4053-BECC-89C20EA5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8683FF-96C6-4142-A63D-486BB71F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A67C85-EEA2-4CB4-BCC3-8DB862CF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216367-14FD-495E-B452-17645FC5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BF710C-B58E-4B05-9B3F-69DB14F1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448C7C-E5C3-48E4-B6AC-DAC7B226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875C5E-AA90-414B-8B0C-94E0E2BC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921112-B416-4E14-B4CD-C1C5F180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C911AE-9815-4EFC-95C2-3E949B05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50110C-6EE8-486B-A5C9-AB871BE6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13A55D-D56B-448E-BCF1-BA26BAAE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8BE74F-49A8-4702-98BB-1CB0F42F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741A8B-FD08-4E85-9287-8C67CDA6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99DD48-EE5B-48C6-BCC1-F128B4E1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CBB1C-8F75-45C4-8D00-45A6B481EB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733153-44DF-4704-865B-AED6A935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6F65A8-8253-406A-AE2B-39318A2C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78A4A2-FCBA-44B1-A581-813A737C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16A0D0-6534-47B6-88EB-CBFEACE7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24CB9D-132A-4489-AC80-5AB26A7D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279D50-859C-4707-81F5-B5D0D331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737DCB-8A69-4ECF-A5AA-89D9453E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34CB48-0CD7-4125-99C0-D50FDA31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085A21-3309-4756-85C6-7B9FDAEA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73DA43-380B-4FA6-BDD1-30791077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20EBC-FB1F-48C1-BAE2-80798FBC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2E2572-7825-4BFC-A1F2-256F6007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77DAF3-5BEA-484B-B362-45825D08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F9CC21-80F5-44FF-BE6C-BCE5A915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C9D8D1-8DBC-4573-8BD1-8091E673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4126C6-D09E-4568-9EE8-3F5D1F12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DB3AE3-263A-466F-8996-B1EEA384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58D9D4-F943-47FD-9250-1238EE87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5E4DEA-F370-4C66-A7C0-7571DEC2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69903C-D054-4E58-BA95-5030D8BD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10FFB3-FE4C-4F27-AF49-9144D088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7D7BF-1C43-4939-8A57-43AAC59F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DC100E-F2E0-45F4-BB98-C28BBD11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5DB833-5298-4DDB-A2FC-2B8204C2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B91358-5312-4582-A8FB-8C37CA8D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12DD96-08F9-47C2-A10C-EA1CCAA0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6932AC-6948-4C23-85D6-49F33C0F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1C098C-D263-4B56-854C-120FE34A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813056-8D00-478A-B692-3DA2216F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D713AA-4F00-4295-B2D1-C9299D51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8569A0-29A5-4220-86AF-B6322964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E7A1E4-DE2A-4F28-8F8A-EEA02DF2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64552-6F38-467B-A59A-35217746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CB392-F402-4677-84A0-09775E70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F2A845-028A-47CF-ABD2-23473936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817F58-418D-4DB7-98CE-304D38A6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33B617-6423-4EEC-82AE-F60D3298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4F0981-8699-4EE3-8C3E-5CB20010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A7917D-E3F0-4BBD-B280-8181823F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B07828-3A1B-4669-B18F-AD88F49B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15730B-3D2B-4B20-BD2E-20D5F9E3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707EE3-1CE1-47C7-A00E-682BD66C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68C92E-B5DC-4248-8BF7-CF0FD495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2579F4-09D3-4C3E-BFCB-7C9CC144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8B402-ED56-44C4-B50F-6059ED95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DEB468-D382-41F3-A0FF-7D9D02A4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37464E-ED47-4B27-8DDE-41104412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4BD071-BA56-4197-A212-ECF4D6B2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9F66CC-7DE8-4BFA-981A-7EC690E8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BE742F-529D-4521-A933-85C87425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3D34EB-011A-43A0-B029-8C16151D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6D7342-38DB-4968-82F1-6C5E5B77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805AB6-C247-420A-82AB-F1D0D836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D9B8A6-8992-42AD-8882-ADAE135B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E0E023-0244-424B-83D6-F8BBC7CFE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E5155-B924-4A16-AEF0-DE2BF545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8DE562-D9C2-4CED-9641-0B471821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16DD9C-698F-46BA-81AF-45876DDC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D84AEA-6A32-4DA0-B89F-459D34A0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50993D-762D-43BD-93B3-33883F17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583B2D-F886-4FB9-A894-975C016D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9024B8-C2FE-44D1-B766-00037BAA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34AA81-5FCF-40D8-8A79-AB83A20D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AF06F7-1E6C-4E91-9E39-A2A5F536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DB33FC-AB90-4719-8F03-E822CE5E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ADB0D3-20A9-4FDD-8FAE-9B49B13E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F5D5E-867E-45AD-BDD3-D1CAB840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6A3E89-D898-4CC1-A4A2-A1A94795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4DC328-E5E4-42D1-90FA-906BD42E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1CBAAD-FC1B-4015-B753-3C997F8B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14F71-A518-4802-8291-648D5443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9D448-6630-47C9-A9AE-CAEF7288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C3AB1-989E-44E8-A068-D09FD914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53CCF-FCCE-4B1C-A2EA-22B1774B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5D593-9D48-400C-8C0C-CDD85270B7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9E8705-9F10-40E8-A501-C8D519B1BA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DF302-3DE5-4295-964A-28DC4BE2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6F35C6-6D64-44D7-ACF1-9482F410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0A0070-FE48-410D-B619-15ABD091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8DD750-0B51-4CFE-BE00-3C79AC9A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F36A9E-4270-4938-899C-2BF0BF34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F42D63-B750-4387-9976-42477A01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F96794-7661-4593-8C67-D25385F3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4C2012-C32B-4F14-B798-601CB84F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44F045-F623-40CA-AF27-FA1614C0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CBD3BF-6837-4432-8D15-25C0B4BC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17F6FB-514D-4522-9F6D-78508C77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0F3CD-ED66-4F33-A472-2FFFEEFA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A6780B-08DA-430C-B0A5-D2756589F0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BB2ACD-4B88-4D54-86A7-52B64B93EE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AFEE05-A004-46E3-B1E2-233F833F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C823E1-78DB-4FE0-936C-DD2D7DDF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993DE0-FA04-47A4-8217-B59FC9D3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D64E3A-689F-41EF-92AA-68F30FE5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9FD8A1-FE4B-4160-906C-7445B37E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62277E-409E-4B30-9591-D636F86F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85A63E-8750-4004-880C-DB8E376A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91833E-5920-4DF2-B420-CBAD94A9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EB5E1-A3AA-4371-BEF4-2DB6B007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2C99F2-141A-4348-B235-A4C07620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CD1029-FDC2-4C70-930C-17F6F73B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8669A7-6E6B-4B02-A710-C52A2E7E13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D2801-937A-4BE4-A990-3E38010B0A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31F3C-3A43-4C35-98FC-3D2D359B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EEB99-8C06-4628-8838-07AA5DEA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61298-E39B-4114-8E87-FCB9547B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C5919-477A-48C1-BA62-C28A5896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28655-1C0A-4033-8FD7-52BF7E18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C8813-30A3-4B03-8D12-A4A89505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7767A-E4D5-43E0-A154-DFDCEC02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D0767-74A3-409A-8506-C976DF43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236D0-A141-48C2-99E1-71300EA8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D75FC-26B2-4B2A-AF44-3E6AB633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08C68-50DF-4A18-B617-95FBD94F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BB50B-1C0B-4C8A-BD15-7821A13F38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3DE7F1-FCBE-48B8-9255-1D261728A3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4D1CC4-21BD-46C2-A369-322CD375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CFF13A-07C3-423C-B865-01388EBD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0615BC-C5D9-4AAB-96E5-145B4B14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9066A6-7686-4E52-911D-0DDC2DF8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D1FF5-42DC-4DBC-AD31-D433EE92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3A2007-0689-4ACD-BC07-0F057741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C9E4E4-7438-404A-84C8-2B267AE0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EE635C-9EA6-4CD3-B6EE-E5A5AB0E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C650AF-2340-4AAF-AD5F-909BC251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B7F28F-CA5A-48A3-BDD3-4C40F6CC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647FA1-135F-470F-A95E-69AFE0CA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796248-5E55-4840-81FD-78CA213785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C75563-622B-481C-9EF8-8E1D2F3982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03489B-6ACE-42F7-9B1F-2A84D9D0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0AA65A-03F7-4759-BEBD-24CE9BD1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1745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1746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1747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1748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1749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1750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1751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78EF-1F9D-46CC-B7D9-43168108091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14E6-14EE-4FAD-88C7-BD1A889A0EA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C85C-F12E-44EC-B521-6DDC53EF547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F933-56DE-4474-961C-08E47DF1268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629B-FE00-445A-8024-2F2C00260B7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98A7-295D-4458-9AA6-81093FFA36C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52C7-6AD0-40E0-A7F0-141A1D42DDB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ACA1-42F2-4C30-B584-3E2C13C9DBF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9CCA-5658-4D57-BE94-EF3CBF26C3C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373E-50A5-4FB2-A877-8F92B2F5AAC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91C2-E999-4196-B072-F64D715DB56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C87F-62CB-4AA7-945F-88E83BB5357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194F-5609-4A19-8865-D6F81B4693F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C6B6-AF2D-4D48-AD48-7E1575E7C15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8611-44AA-4322-BD57-E7052F7ECEC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7D92-0FFD-4E83-8C75-525B651E336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34E2-5FCC-46F6-A64F-2FF60E79185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B1F5-D309-4705-BBFE-9DEE977678C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1B1F-82C7-480C-B224-E40D6A095092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C263-A26D-4F54-87A6-8F9116654288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3C99-B0E6-4837-9ECD-A78DE67F53AC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228D-57F9-4C75-977D-21EFDB4D4B43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7F0C-5019-432E-9EE7-345138016D5C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75C7-EBF1-4B52-B0DA-D8ACFB64FBD3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2475-60CF-47F0-A3C8-BE7822CAB6D8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6038-70B5-4A83-B913-120446F945D3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7DBD-41EB-4235-AB3A-EE0A01F4F3F3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EF9D-481F-425C-A6D8-CD4DC9E5A86C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5D39-D2FF-4C9C-BAA0-BE6A3F3BBFEE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B22A-AB73-4755-98ED-43E65C9DC197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32769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3" name="椭圆 32770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椭圆 32771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椭圆 32772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椭圆 32773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椭圆 32774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椭圆 32775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30B5-914D-4B36-87DE-6B1DA13CA1C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3768-F826-4847-BDDD-DE9EA122DA4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1BA7-A00D-48AF-BE26-48589E6D5C1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2B69-9491-4684-832D-6C1EF24D8DC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2A39-4F7B-4A0E-8A2F-738C58D776A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DFBA-4E3A-4B19-9772-1529464EFE1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矩形 27649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1" name="矩形 27650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2" name="Rectangle 7"/>
          <p:cNvSpPr/>
          <p:nvPr/>
        </p:nvSpPr>
        <p:spPr>
          <a:xfrm>
            <a:off x="2195640" y="620640"/>
            <a:ext cx="53989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华文彩云"/>
                <a:ea typeface="宋体"/>
              </a:rPr>
              <a:t>圆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3" name="TextBox 3"/>
          <p:cNvSpPr/>
          <p:nvPr/>
        </p:nvSpPr>
        <p:spPr>
          <a:xfrm>
            <a:off x="1258920" y="2565360"/>
            <a:ext cx="38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圆的面积（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1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2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573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574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1575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576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1577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1578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1579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1580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581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一、复习旧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5" name="Rectangle 3"/>
          <p:cNvSpPr/>
          <p:nvPr/>
        </p:nvSpPr>
        <p:spPr>
          <a:xfrm>
            <a:off x="817560" y="1268280"/>
            <a:ext cx="7786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cc0000"/>
                </a:solidFill>
                <a:uFillTx/>
                <a:latin typeface="宋体"/>
                <a:ea typeface="宋体"/>
              </a:rPr>
              <a:t>     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一个圆的周长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2.56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c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求它的半径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一个圆形茶几面的半径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d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它的面积是多少平方分米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6" name="TextBox 1"/>
          <p:cNvSpPr/>
          <p:nvPr/>
        </p:nvSpPr>
        <p:spPr>
          <a:xfrm>
            <a:off x="2268360" y="301608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2.56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.14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cm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7" name="TextBox 4"/>
          <p:cNvSpPr/>
          <p:nvPr/>
        </p:nvSpPr>
        <p:spPr>
          <a:xfrm>
            <a:off x="2340000" y="46134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.14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²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8.26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dm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²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8" name="矩形 19461"/>
          <p:cNvSpPr/>
          <p:nvPr/>
        </p:nvSpPr>
        <p:spPr>
          <a:xfrm>
            <a:off x="2063520" y="34653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9" name="矩形 19462"/>
          <p:cNvSpPr/>
          <p:nvPr/>
        </p:nvSpPr>
        <p:spPr>
          <a:xfrm>
            <a:off x="2279520" y="36813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1" name="TextBox 2"/>
          <p:cNvSpPr/>
          <p:nvPr/>
        </p:nvSpPr>
        <p:spPr>
          <a:xfrm>
            <a:off x="1332000" y="4354560"/>
            <a:ext cx="69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中国建筑中经常能见到“外方内圆”和“外圆内方”的设计。上图中的两个圆半径都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你能求出正方形和圆之间部分的面积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92" name="组合 20483"/>
          <p:cNvGrpSpPr/>
          <p:nvPr/>
        </p:nvGrpSpPr>
        <p:grpSpPr>
          <a:xfrm>
            <a:off x="1692360" y="1844640"/>
            <a:ext cx="5184720" cy="2232000"/>
            <a:chOff x="1692360" y="1844640"/>
            <a:chExt cx="5184720" cy="2232000"/>
          </a:xfrm>
        </p:grpSpPr>
        <p:pic>
          <p:nvPicPr>
            <p:cNvPr id="1493" name="图片 20484" descr="65"/>
            <p:cNvPicPr/>
            <p:nvPr/>
          </p:nvPicPr>
          <p:blipFill>
            <a:blip r:embed="rId1"/>
            <a:stretch/>
          </p:blipFill>
          <p:spPr>
            <a:xfrm>
              <a:off x="1692360" y="1844640"/>
              <a:ext cx="2220840" cy="21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图片 20485" descr="66"/>
            <p:cNvPicPr/>
            <p:nvPr/>
          </p:nvPicPr>
          <p:blipFill>
            <a:blip r:embed="rId2"/>
            <a:stretch/>
          </p:blipFill>
          <p:spPr>
            <a:xfrm>
              <a:off x="4710240" y="1916280"/>
              <a:ext cx="2166840" cy="216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5" name="矩形 20486"/>
          <p:cNvSpPr/>
          <p:nvPr/>
        </p:nvSpPr>
        <p:spPr>
          <a:xfrm>
            <a:off x="487080" y="436572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97" name="组合 21506"/>
          <p:cNvGrpSpPr/>
          <p:nvPr/>
        </p:nvGrpSpPr>
        <p:grpSpPr>
          <a:xfrm>
            <a:off x="789120" y="1628640"/>
            <a:ext cx="3490920" cy="1440000"/>
            <a:chOff x="789120" y="1628640"/>
            <a:chExt cx="3490920" cy="1440000"/>
          </a:xfrm>
        </p:grpSpPr>
        <p:pic>
          <p:nvPicPr>
            <p:cNvPr id="1498" name="图片 21507" descr="65"/>
            <p:cNvPicPr/>
            <p:nvPr/>
          </p:nvPicPr>
          <p:blipFill>
            <a:blip r:embed="rId1"/>
            <a:stretch/>
          </p:blipFill>
          <p:spPr>
            <a:xfrm>
              <a:off x="789120" y="1628640"/>
              <a:ext cx="14792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9" name="图片 21508" descr="66"/>
            <p:cNvPicPr/>
            <p:nvPr/>
          </p:nvPicPr>
          <p:blipFill>
            <a:blip r:embed="rId2"/>
            <a:stretch/>
          </p:blipFill>
          <p:spPr>
            <a:xfrm>
              <a:off x="2836800" y="1628640"/>
              <a:ext cx="1443240" cy="143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0" name="组合 21509"/>
          <p:cNvGrpSpPr/>
          <p:nvPr/>
        </p:nvGrpSpPr>
        <p:grpSpPr>
          <a:xfrm>
            <a:off x="4932360" y="1989000"/>
            <a:ext cx="3828600" cy="1279800"/>
            <a:chOff x="4932360" y="1989000"/>
            <a:chExt cx="3828600" cy="1279800"/>
          </a:xfrm>
        </p:grpSpPr>
        <p:pic>
          <p:nvPicPr>
            <p:cNvPr id="1501" name="Picture 16" descr="女天使"/>
            <p:cNvPicPr/>
            <p:nvPr/>
          </p:nvPicPr>
          <p:blipFill>
            <a:blip r:embed="rId3"/>
            <a:stretch/>
          </p:blipFill>
          <p:spPr>
            <a:xfrm>
              <a:off x="7237080" y="1989000"/>
              <a:ext cx="1523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2" name="AutoShape 27"/>
            <p:cNvSpPr/>
            <p:nvPr/>
          </p:nvSpPr>
          <p:spPr>
            <a:xfrm>
              <a:off x="4932360" y="2133720"/>
              <a:ext cx="2273040" cy="936360"/>
            </a:xfrm>
            <a:prstGeom prst="wedgeRoundRectCallout">
              <a:avLst>
                <a:gd name="adj1" fmla="val 59425"/>
                <a:gd name="adj2" fmla="val 2762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题目中都告诉了我们什么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03" name="组合 21512"/>
          <p:cNvGrpSpPr/>
          <p:nvPr/>
        </p:nvGrpSpPr>
        <p:grpSpPr>
          <a:xfrm>
            <a:off x="324000" y="3213000"/>
            <a:ext cx="4733640" cy="1800360"/>
            <a:chOff x="324000" y="3213000"/>
            <a:chExt cx="4733640" cy="1800360"/>
          </a:xfrm>
        </p:grpSpPr>
        <p:sp>
          <p:nvSpPr>
            <p:cNvPr id="1504" name="AutoShape 27"/>
            <p:cNvSpPr/>
            <p:nvPr/>
          </p:nvSpPr>
          <p:spPr>
            <a:xfrm>
              <a:off x="1692360" y="3213000"/>
              <a:ext cx="3365280" cy="1305000"/>
            </a:xfrm>
            <a:prstGeom prst="wedgeRoundRectCallout">
              <a:avLst>
                <a:gd name="adj1" fmla="val -56745"/>
                <a:gd name="adj2" fmla="val -377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上图中两个圆的半径都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m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，怎样求正方形和圆之间部分的面积呢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05" name="图片 21514" descr="67"/>
            <p:cNvPicPr/>
            <p:nvPr/>
          </p:nvPicPr>
          <p:blipFill>
            <a:blip r:embed="rId4"/>
            <a:stretch/>
          </p:blipFill>
          <p:spPr>
            <a:xfrm>
              <a:off x="324000" y="3213000"/>
              <a:ext cx="112212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6" name="组合 21515"/>
          <p:cNvGrpSpPr/>
          <p:nvPr/>
        </p:nvGrpSpPr>
        <p:grpSpPr>
          <a:xfrm>
            <a:off x="2987640" y="4653000"/>
            <a:ext cx="5230800" cy="1798560"/>
            <a:chOff x="2987640" y="4653000"/>
            <a:chExt cx="5230800" cy="1798560"/>
          </a:xfrm>
        </p:grpSpPr>
        <p:sp>
          <p:nvSpPr>
            <p:cNvPr id="1507" name="AutoShape 27"/>
            <p:cNvSpPr/>
            <p:nvPr/>
          </p:nvSpPr>
          <p:spPr>
            <a:xfrm>
              <a:off x="2987640" y="4795920"/>
              <a:ext cx="3419280" cy="1008000"/>
            </a:xfrm>
            <a:prstGeom prst="wedgeRoundRectCallout">
              <a:avLst>
                <a:gd name="adj1" fmla="val 56268"/>
                <a:gd name="adj2" fmla="val -52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左图求的是正方形比圆多的面积，右图求的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……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08" name="图片 21517" descr="68"/>
            <p:cNvPicPr/>
            <p:nvPr/>
          </p:nvPicPr>
          <p:blipFill>
            <a:blip r:embed="rId5"/>
            <a:stretch/>
          </p:blipFill>
          <p:spPr>
            <a:xfrm>
              <a:off x="6588000" y="4653000"/>
              <a:ext cx="1630440" cy="1798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0" name="TextBox 34"/>
          <p:cNvSpPr/>
          <p:nvPr/>
        </p:nvSpPr>
        <p:spPr>
          <a:xfrm>
            <a:off x="2460600" y="4508640"/>
            <a:ext cx="275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从图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可以看出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×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²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1" name="TextBox 35"/>
          <p:cNvSpPr/>
          <p:nvPr/>
        </p:nvSpPr>
        <p:spPr>
          <a:xfrm>
            <a:off x="2460600" y="6053040"/>
            <a:ext cx="26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14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0.86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²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2" name="TextBox 36"/>
          <p:cNvSpPr/>
          <p:nvPr/>
        </p:nvSpPr>
        <p:spPr>
          <a:xfrm>
            <a:off x="2460600" y="5549760"/>
            <a:ext cx="33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14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²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14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²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13" name="组合 22533"/>
          <p:cNvGrpSpPr/>
          <p:nvPr/>
        </p:nvGrpSpPr>
        <p:grpSpPr>
          <a:xfrm>
            <a:off x="539640" y="1557360"/>
            <a:ext cx="4824360" cy="1279440"/>
            <a:chOff x="539640" y="1557360"/>
            <a:chExt cx="4824360" cy="1279440"/>
          </a:xfrm>
        </p:grpSpPr>
        <p:pic>
          <p:nvPicPr>
            <p:cNvPr id="1514" name="Picture 19" descr="女天使副本"/>
            <p:cNvPicPr/>
            <p:nvPr/>
          </p:nvPicPr>
          <p:blipFill>
            <a:blip r:embed="rId1"/>
            <a:stretch/>
          </p:blipFill>
          <p:spPr>
            <a:xfrm>
              <a:off x="539640" y="155736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AutoShape 27"/>
            <p:cNvSpPr/>
            <p:nvPr/>
          </p:nvSpPr>
          <p:spPr>
            <a:xfrm>
              <a:off x="2196720" y="1846080"/>
              <a:ext cx="3167280" cy="574920"/>
            </a:xfrm>
            <a:prstGeom prst="wedgeRoundRectCallout">
              <a:avLst>
                <a:gd name="adj1" fmla="val -58370"/>
                <a:gd name="adj2" fmla="val 5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你能解决这个问题吗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16" name="组合 22536"/>
          <p:cNvGrpSpPr/>
          <p:nvPr/>
        </p:nvGrpSpPr>
        <p:grpSpPr>
          <a:xfrm>
            <a:off x="6300720" y="2637000"/>
            <a:ext cx="1792080" cy="2232000"/>
            <a:chOff x="6300720" y="2637000"/>
            <a:chExt cx="1792080" cy="2232000"/>
          </a:xfrm>
        </p:grpSpPr>
        <p:pic>
          <p:nvPicPr>
            <p:cNvPr id="1517" name="图片 22537" descr="69"/>
            <p:cNvPicPr/>
            <p:nvPr/>
          </p:nvPicPr>
          <p:blipFill>
            <a:blip r:embed="rId2"/>
            <a:stretch/>
          </p:blipFill>
          <p:spPr>
            <a:xfrm>
              <a:off x="6300720" y="2637000"/>
              <a:ext cx="179208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8" name="文本框 22538"/>
            <p:cNvSpPr/>
            <p:nvPr/>
          </p:nvSpPr>
          <p:spPr>
            <a:xfrm>
              <a:off x="6584760" y="4470120"/>
              <a:ext cx="11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图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19" name="组合 22539"/>
          <p:cNvGrpSpPr/>
          <p:nvPr/>
        </p:nvGrpSpPr>
        <p:grpSpPr>
          <a:xfrm>
            <a:off x="684360" y="3068640"/>
            <a:ext cx="4733280" cy="1873080"/>
            <a:chOff x="684360" y="3068640"/>
            <a:chExt cx="4733280" cy="1873080"/>
          </a:xfrm>
        </p:grpSpPr>
        <p:sp>
          <p:nvSpPr>
            <p:cNvPr id="1520" name="AutoShape 27"/>
            <p:cNvSpPr/>
            <p:nvPr/>
          </p:nvSpPr>
          <p:spPr>
            <a:xfrm>
              <a:off x="2052360" y="3068640"/>
              <a:ext cx="3365280" cy="1008000"/>
            </a:xfrm>
            <a:prstGeom prst="wedgeRoundRectCallout">
              <a:avLst>
                <a:gd name="adj1" fmla="val -58726"/>
                <a:gd name="adj2" fmla="val 1740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右图中正方形的边长就是圆的直径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21" name="图片 22541" descr="67"/>
            <p:cNvPicPr/>
            <p:nvPr/>
          </p:nvPicPr>
          <p:blipFill>
            <a:blip r:embed="rId3"/>
            <a:stretch/>
          </p:blipFill>
          <p:spPr>
            <a:xfrm>
              <a:off x="684360" y="3141360"/>
              <a:ext cx="112212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2" name="矩形 22542"/>
          <p:cNvSpPr/>
          <p:nvPr/>
        </p:nvSpPr>
        <p:spPr>
          <a:xfrm>
            <a:off x="2063520" y="34653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4" name="TextBox 20"/>
          <p:cNvSpPr/>
          <p:nvPr/>
        </p:nvSpPr>
        <p:spPr>
          <a:xfrm>
            <a:off x="3635280" y="5229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14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14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²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5" name="TextBox 16"/>
          <p:cNvSpPr/>
          <p:nvPr/>
        </p:nvSpPr>
        <p:spPr>
          <a:xfrm>
            <a:off x="3522600" y="4005360"/>
            <a:ext cx="31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从图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可以看出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26" name="组合 23556"/>
          <p:cNvGrpSpPr/>
          <p:nvPr/>
        </p:nvGrpSpPr>
        <p:grpSpPr>
          <a:xfrm>
            <a:off x="179280" y="1700280"/>
            <a:ext cx="4119480" cy="1873080"/>
            <a:chOff x="179280" y="1700280"/>
            <a:chExt cx="4119480" cy="1873080"/>
          </a:xfrm>
        </p:grpSpPr>
        <p:sp>
          <p:nvSpPr>
            <p:cNvPr id="1527" name="AutoShape 27"/>
            <p:cNvSpPr/>
            <p:nvPr/>
          </p:nvSpPr>
          <p:spPr>
            <a:xfrm>
              <a:off x="1490400" y="1700280"/>
              <a:ext cx="2808360" cy="936360"/>
            </a:xfrm>
            <a:prstGeom prst="wedgeRoundRectCallout">
              <a:avLst>
                <a:gd name="adj1" fmla="val -59439"/>
                <a:gd name="adj2" fmla="val 306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下图中正方形的边长是多少呢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28" name="图片 23558" descr="67"/>
            <p:cNvPicPr/>
            <p:nvPr/>
          </p:nvPicPr>
          <p:blipFill>
            <a:blip r:embed="rId1"/>
            <a:stretch/>
          </p:blipFill>
          <p:spPr>
            <a:xfrm>
              <a:off x="179280" y="1773360"/>
              <a:ext cx="112212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9" name="组合 23559"/>
          <p:cNvGrpSpPr/>
          <p:nvPr/>
        </p:nvGrpSpPr>
        <p:grpSpPr>
          <a:xfrm>
            <a:off x="684360" y="3860640"/>
            <a:ext cx="1831680" cy="2243880"/>
            <a:chOff x="684360" y="3860640"/>
            <a:chExt cx="1831680" cy="2243880"/>
          </a:xfrm>
        </p:grpSpPr>
        <p:pic>
          <p:nvPicPr>
            <p:cNvPr id="1530" name="图片 23560" descr="71"/>
            <p:cNvPicPr/>
            <p:nvPr/>
          </p:nvPicPr>
          <p:blipFill>
            <a:blip r:embed="rId2"/>
            <a:stretch/>
          </p:blipFill>
          <p:spPr>
            <a:xfrm>
              <a:off x="684360" y="3860640"/>
              <a:ext cx="18316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1" name="矩形 23561"/>
            <p:cNvSpPr/>
            <p:nvPr/>
          </p:nvSpPr>
          <p:spPr>
            <a:xfrm>
              <a:off x="1167840" y="570564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图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32" name="组合 23562"/>
          <p:cNvGrpSpPr/>
          <p:nvPr/>
        </p:nvGrpSpPr>
        <p:grpSpPr>
          <a:xfrm>
            <a:off x="3400560" y="4441680"/>
            <a:ext cx="3671640" cy="815400"/>
            <a:chOff x="3400560" y="4441680"/>
            <a:chExt cx="3671640" cy="815400"/>
          </a:xfrm>
        </p:grpSpPr>
        <p:sp>
          <p:nvSpPr>
            <p:cNvPr id="1533" name="TextBox 18"/>
            <p:cNvSpPr/>
            <p:nvPr/>
          </p:nvSpPr>
          <p:spPr>
            <a:xfrm>
              <a:off x="3400560" y="4660560"/>
              <a:ext cx="36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m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²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34" name="组合 23564"/>
            <p:cNvGrpSpPr/>
            <p:nvPr/>
          </p:nvGrpSpPr>
          <p:grpSpPr>
            <a:xfrm>
              <a:off x="3706560" y="4441680"/>
              <a:ext cx="510480" cy="815400"/>
              <a:chOff x="3706560" y="4441680"/>
              <a:chExt cx="510480" cy="815400"/>
            </a:xfrm>
          </p:grpSpPr>
          <p:sp>
            <p:nvSpPr>
              <p:cNvPr id="1535" name="文本框 23565"/>
              <p:cNvSpPr/>
              <p:nvPr/>
            </p:nvSpPr>
            <p:spPr>
              <a:xfrm>
                <a:off x="3712320" y="47973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36" name="文本框 23566"/>
              <p:cNvSpPr/>
              <p:nvPr/>
            </p:nvSpPr>
            <p:spPr>
              <a:xfrm>
                <a:off x="3706560" y="444168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37" name="直接连接符 23567"/>
              <p:cNvSpPr/>
              <p:nvPr/>
            </p:nvSpPr>
            <p:spPr>
              <a:xfrm>
                <a:off x="3750480" y="4861080"/>
                <a:ext cx="252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38" name="组合 23568"/>
          <p:cNvGrpSpPr/>
          <p:nvPr/>
        </p:nvGrpSpPr>
        <p:grpSpPr>
          <a:xfrm>
            <a:off x="3059280" y="2781360"/>
            <a:ext cx="5662440" cy="1942560"/>
            <a:chOff x="3059280" y="2781360"/>
            <a:chExt cx="5662440" cy="1942560"/>
          </a:xfrm>
        </p:grpSpPr>
        <p:sp>
          <p:nvSpPr>
            <p:cNvPr id="1539" name="AutoShape 27"/>
            <p:cNvSpPr/>
            <p:nvPr/>
          </p:nvSpPr>
          <p:spPr>
            <a:xfrm>
              <a:off x="3059280" y="2781360"/>
              <a:ext cx="4066920" cy="937800"/>
            </a:xfrm>
            <a:prstGeom prst="wedgeRoundRectCallout">
              <a:avLst>
                <a:gd name="adj1" fmla="val 56439"/>
                <a:gd name="adj2" fmla="val -93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可以把图中的正方形看成两个三角形，它的底和高分别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……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40" name="图片 23570" descr="68"/>
            <p:cNvPicPr/>
            <p:nvPr/>
          </p:nvPicPr>
          <p:blipFill>
            <a:blip r:embed="rId3"/>
            <a:stretch/>
          </p:blipFill>
          <p:spPr>
            <a:xfrm>
              <a:off x="7091280" y="2925720"/>
              <a:ext cx="1630440" cy="1798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42" name="Object 25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543" name="TextBox 34"/>
          <p:cNvSpPr/>
          <p:nvPr/>
        </p:nvSpPr>
        <p:spPr>
          <a:xfrm>
            <a:off x="2244600" y="3033720"/>
            <a:ext cx="39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左图：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r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²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14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r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²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0.86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r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²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4" name="TextBox 39"/>
          <p:cNvSpPr/>
          <p:nvPr/>
        </p:nvSpPr>
        <p:spPr>
          <a:xfrm>
            <a:off x="1093680" y="5343480"/>
            <a:ext cx="75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答：左图中正方形与圆之间的面积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0.86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²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右图中圆与正方形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之间的面积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14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²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45" name="组合 24581"/>
          <p:cNvGrpSpPr/>
          <p:nvPr/>
        </p:nvGrpSpPr>
        <p:grpSpPr>
          <a:xfrm>
            <a:off x="324000" y="1700280"/>
            <a:ext cx="4897440" cy="1800000"/>
            <a:chOff x="324000" y="1700280"/>
            <a:chExt cx="4897440" cy="1800000"/>
          </a:xfrm>
        </p:grpSpPr>
        <p:sp>
          <p:nvSpPr>
            <p:cNvPr id="1546" name="AutoShape 27"/>
            <p:cNvSpPr/>
            <p:nvPr/>
          </p:nvSpPr>
          <p:spPr>
            <a:xfrm>
              <a:off x="1692360" y="1700280"/>
              <a:ext cx="3529080" cy="934920"/>
            </a:xfrm>
            <a:prstGeom prst="wedgeRoundRectCallout">
              <a:avLst>
                <a:gd name="adj1" fmla="val -55625"/>
                <a:gd name="adj2" fmla="val 1859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那么我们解答得对不对呢？有什么方法验证吗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47" name="图片 24583" descr="67"/>
            <p:cNvPicPr/>
            <p:nvPr/>
          </p:nvPicPr>
          <p:blipFill>
            <a:blip r:embed="rId2"/>
            <a:stretch/>
          </p:blipFill>
          <p:spPr>
            <a:xfrm>
              <a:off x="324000" y="1700280"/>
              <a:ext cx="112248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8" name="组合 24584"/>
          <p:cNvGrpSpPr/>
          <p:nvPr/>
        </p:nvGrpSpPr>
        <p:grpSpPr>
          <a:xfrm>
            <a:off x="3564000" y="1557360"/>
            <a:ext cx="5123880" cy="1279440"/>
            <a:chOff x="3564000" y="1557360"/>
            <a:chExt cx="5123880" cy="1279440"/>
          </a:xfrm>
        </p:grpSpPr>
        <p:pic>
          <p:nvPicPr>
            <p:cNvPr id="1549" name="Picture 16" descr="女天使"/>
            <p:cNvPicPr/>
            <p:nvPr/>
          </p:nvPicPr>
          <p:blipFill>
            <a:blip r:embed="rId3"/>
            <a:stretch/>
          </p:blipFill>
          <p:spPr>
            <a:xfrm>
              <a:off x="7164000" y="155736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AutoShape 27"/>
            <p:cNvSpPr/>
            <p:nvPr/>
          </p:nvSpPr>
          <p:spPr>
            <a:xfrm>
              <a:off x="3564000" y="1701720"/>
              <a:ext cx="3568320" cy="936720"/>
            </a:xfrm>
            <a:prstGeom prst="wedgeRoundRectCallout">
              <a:avLst>
                <a:gd name="adj1" fmla="val 56004"/>
                <a:gd name="adj2" fmla="val 2762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如果两个圆的半径都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r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，结果又是怎样的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51" name="组合 24587"/>
          <p:cNvGrpSpPr/>
          <p:nvPr/>
        </p:nvGrpSpPr>
        <p:grpSpPr>
          <a:xfrm>
            <a:off x="2233440" y="3390840"/>
            <a:ext cx="6095880" cy="815400"/>
            <a:chOff x="2233440" y="3390840"/>
            <a:chExt cx="6095880" cy="815400"/>
          </a:xfrm>
        </p:grpSpPr>
        <p:sp>
          <p:nvSpPr>
            <p:cNvPr id="1552" name="TextBox 35"/>
            <p:cNvSpPr/>
            <p:nvPr/>
          </p:nvSpPr>
          <p:spPr>
            <a:xfrm>
              <a:off x="2233440" y="3624120"/>
              <a:ext cx="609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右图：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.14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r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²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－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（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r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r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.14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r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²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53" name="组合 24589"/>
            <p:cNvGrpSpPr/>
            <p:nvPr/>
          </p:nvGrpSpPr>
          <p:grpSpPr>
            <a:xfrm>
              <a:off x="4541400" y="3390840"/>
              <a:ext cx="511200" cy="815400"/>
              <a:chOff x="4541400" y="3390840"/>
              <a:chExt cx="511200" cy="815400"/>
            </a:xfrm>
          </p:grpSpPr>
          <p:sp>
            <p:nvSpPr>
              <p:cNvPr id="1554" name="文本框 24590"/>
              <p:cNvSpPr/>
              <p:nvPr/>
            </p:nvSpPr>
            <p:spPr>
              <a:xfrm>
                <a:off x="4547520" y="374652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5" name="文本框 24591"/>
              <p:cNvSpPr/>
              <p:nvPr/>
            </p:nvSpPr>
            <p:spPr>
              <a:xfrm>
                <a:off x="4541400" y="33908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6" name="直接连接符 24592"/>
              <p:cNvSpPr/>
              <p:nvPr/>
            </p:nvSpPr>
            <p:spPr>
              <a:xfrm>
                <a:off x="4585680" y="381024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57" name="组合 24593"/>
          <p:cNvGrpSpPr/>
          <p:nvPr/>
        </p:nvGrpSpPr>
        <p:grpSpPr>
          <a:xfrm>
            <a:off x="395280" y="3860640"/>
            <a:ext cx="4824360" cy="1279440"/>
            <a:chOff x="395280" y="3860640"/>
            <a:chExt cx="4824360" cy="1279440"/>
          </a:xfrm>
        </p:grpSpPr>
        <p:pic>
          <p:nvPicPr>
            <p:cNvPr id="1558" name="Picture 19" descr="女天使副本"/>
            <p:cNvPicPr/>
            <p:nvPr/>
          </p:nvPicPr>
          <p:blipFill>
            <a:blip r:embed="rId4"/>
            <a:stretch/>
          </p:blipFill>
          <p:spPr>
            <a:xfrm>
              <a:off x="395280" y="386064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AutoShape 27"/>
            <p:cNvSpPr/>
            <p:nvPr/>
          </p:nvSpPr>
          <p:spPr>
            <a:xfrm>
              <a:off x="2052360" y="4149360"/>
              <a:ext cx="3167280" cy="936720"/>
            </a:xfrm>
            <a:prstGeom prst="wedgeRoundRectCallout">
              <a:avLst>
                <a:gd name="adj1" fmla="val -58370"/>
                <a:gd name="adj2" fmla="val 1135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当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r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m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时，和前面的结果完全一致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知识应用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1" name="TextBox 7"/>
          <p:cNvSpPr/>
          <p:nvPr/>
        </p:nvSpPr>
        <p:spPr>
          <a:xfrm>
            <a:off x="785880" y="2357280"/>
            <a:ext cx="54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右图是一面我国唐代外圆内方的铜镜。铜镜的直径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4.8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c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外面的圆与内部的正方形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之间的面积是多少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2" name="TextBox 12"/>
          <p:cNvSpPr/>
          <p:nvPr/>
        </p:nvSpPr>
        <p:spPr>
          <a:xfrm>
            <a:off x="900000" y="512928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答：外面的圆与内部的正方形之间的面积约是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75.3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cm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²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3" name="矩形 13"/>
          <p:cNvSpPr/>
          <p:nvPr/>
        </p:nvSpPr>
        <p:spPr>
          <a:xfrm>
            <a:off x="1619280" y="4076640"/>
            <a:ext cx="796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.14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4.8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²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75.2864                                                      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                    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75.3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cm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²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             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4" name="TextBox 1"/>
          <p:cNvSpPr/>
          <p:nvPr/>
        </p:nvSpPr>
        <p:spPr>
          <a:xfrm>
            <a:off x="324000" y="1484280"/>
            <a:ext cx="388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一）解决问题。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65" name="图片 25606" descr="72"/>
          <p:cNvPicPr/>
          <p:nvPr/>
        </p:nvPicPr>
        <p:blipFill>
          <a:blip r:embed="rId1"/>
          <a:stretch/>
        </p:blipFill>
        <p:spPr>
          <a:xfrm>
            <a:off x="6372360" y="2205000"/>
            <a:ext cx="1417680" cy="14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知识应用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7" name="TextBox 1"/>
          <p:cNvSpPr/>
          <p:nvPr/>
        </p:nvSpPr>
        <p:spPr>
          <a:xfrm>
            <a:off x="324000" y="1484280"/>
            <a:ext cx="453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生活中的数学。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68" name="ShockwaveFlash1" descr=""/>
          <p:cNvPicPr/>
          <p:nvPr/>
        </p:nvPicPr>
        <p:blipFill>
          <a:blip r:embed="rId1"/>
          <a:stretch/>
        </p:blipFill>
        <p:spPr>
          <a:xfrm>
            <a:off x="1566720" y="2133720"/>
            <a:ext cx="5884920" cy="4414680"/>
          </a:xfrm>
          <a:prstGeom prst="rect">
            <a:avLst/>
          </a:prstGeom>
          <a:ln w="0">
            <a:noFill/>
          </a:ln>
        </p:spPr>
      </p:pic>
      <p:pic>
        <p:nvPicPr>
          <p:cNvPr id="1569" name="图片 26628" descr=""/>
          <p:cNvPicPr/>
          <p:nvPr/>
        </p:nvPicPr>
        <p:blipFill>
          <a:blip r:embed="rId2"/>
          <a:stretch/>
        </p:blipFill>
        <p:spPr>
          <a:xfrm>
            <a:off x="1547640" y="2114640"/>
            <a:ext cx="5915160" cy="4457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38:54Z</dcterms:modified>
  <cp:revision>3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